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5E67-0501-44D6-9C97-4697B7CEA4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0667-248D-4879-9B79-3AD9579B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4A7A-A808-43BC-AF6A-D0FA17B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284A-4928-48B6-AB0C-C64AB8B168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15464-7159-418D-9E19-A7AF6177E4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FFD24-5BD1-4271-9192-9CDBFF32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46C37-BAD7-46EE-BD96-050E6EE7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A13EF-5EFD-4C91-AFB6-2F656C3C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88E3F-483A-49C1-841E-68B0BABA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03FAA-C579-4EE6-8474-2A04E204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BE79F-EA40-4E46-A8CA-DDEC5529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724A-4F9E-4706-8030-5CF14D6F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2F170-F9D3-419A-BA59-A307D8AF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2E7A2-6763-4C08-A70B-4881EF67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52FDD-BF03-4EFE-8FB8-225438FD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968E9-21AB-4CC0-8FB5-7D419616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0D95E-AE36-4582-8B87-37AD04ED74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FD6C-793D-4C9E-8300-2F1AB05C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B494-5816-43CA-91B1-EC982AFF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7EEC-1CC6-4A8F-9DBB-27D44325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DE7A-D364-49C7-9D77-0A2A6AAB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3327-4911-401A-AD29-283F1C01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5E8C-1A83-47F2-88C0-72728C2B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C831-4AA5-45F1-A6F2-99C13076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0320" y="250920"/>
            <a:ext cx="8380440" cy="12729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82BB-CD6F-4618-A63C-192BCF9DF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04960" y="73080"/>
            <a:ext cx="66600" cy="1112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04960" y="303120"/>
            <a:ext cx="66600" cy="10980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04960" y="530280"/>
            <a:ext cx="66600" cy="1094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5800" y="6470640"/>
            <a:ext cx="3505320" cy="3794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rcRect l="1886" t="18999" r="84769" b="76291"/>
          <a:stretch/>
        </p:blipFill>
        <p:spPr>
          <a:xfrm>
            <a:off x="698400" y="653400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2209680" y="6610320"/>
            <a:ext cx="228600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529320"/>
            <a:ext cx="3505320" cy="3272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86000"/>
            <a:ext cx="8456760" cy="12193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0920" y="117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0920" y="347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574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0920" y="1033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0920" y="1260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0920" y="1490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0920" y="1717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0920" y="1947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0920" y="2176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69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880920" y="804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3693960"/>
            <a:ext cx="1909800" cy="1909800"/>
            <a:chOff x="0" y="3693960"/>
            <a:chExt cx="1909800" cy="1909800"/>
          </a:xfrm>
        </p:grpSpPr>
        <p:sp>
          <p:nvSpPr>
            <p:cNvPr id="79" name=""/>
            <p:cNvSpPr/>
            <p:nvPr/>
          </p:nvSpPr>
          <p:spPr>
            <a:xfrm>
              <a:off x="0" y="380052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560" y="369396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1320" y="4498920"/>
              <a:ext cx="100080" cy="11592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42" y="65"/>
                  </a:moveTo>
                  <a:lnTo>
                    <a:pt x="58" y="72"/>
                  </a:lnTo>
                  <a:lnTo>
                    <a:pt x="62" y="72"/>
                  </a:lnTo>
                  <a:lnTo>
                    <a:pt x="62" y="67"/>
                  </a:lnTo>
                  <a:lnTo>
                    <a:pt x="58" y="65"/>
                  </a:lnTo>
                  <a:lnTo>
                    <a:pt x="58" y="62"/>
                  </a:lnTo>
                  <a:lnTo>
                    <a:pt x="44" y="56"/>
                  </a:lnTo>
                  <a:lnTo>
                    <a:pt x="37" y="45"/>
                  </a:lnTo>
                  <a:lnTo>
                    <a:pt x="31" y="34"/>
                  </a:lnTo>
                  <a:lnTo>
                    <a:pt x="26" y="20"/>
                  </a:lnTo>
                  <a:lnTo>
                    <a:pt x="9" y="0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1" y="56"/>
                  </a:lnTo>
                  <a:lnTo>
                    <a:pt x="42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F997-98CB-40D9-AC78-DCBC62DFF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4560" y="21463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UN CURSO PRÁCTICO DE FINANZAS          DIRIGIDO A LOS EMPRES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6286680"/>
            <a:ext cx="6134040" cy="266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698400" y="654516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09680" y="6608880"/>
            <a:ext cx="2210040" cy="24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185688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ndeudamien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- Estructura &amp; Fu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ormulas Prácticas para sus Problemas 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mo Proyectar Financier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Ind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17:30:53Z</dcterms:created>
  <dc:creator>Ricardo Almazán</dc:creator>
  <dc:description/>
  <dc:language>en-US</dc:language>
  <cp:lastModifiedBy>Oscar Vaquero</cp:lastModifiedBy>
  <dcterms:modified xsi:type="dcterms:W3CDTF">2001-07-19T19:06:53Z</dcterms:modified>
  <cp:revision>22</cp:revision>
  <dc:subject/>
  <dc:title>FINANZAS  EMPRESARIALES</dc:title>
</cp:coreProperties>
</file>